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703C-B85C-4ED7-8C32-6A83D5C773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 I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can be calculated using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cals or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 In soli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can be calculated using the following equa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cals or N/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In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In liquid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make things turn or rotate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used by forces but are not forces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 will be bigger i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causing the turning effect is big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is further from the piv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make things turn or rotate. 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y are caused by forces but are not forces themselve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moment will be bigger if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causing the turning effect is bigger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is further from the piv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 = Force x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 = Force x Dista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clockwise Moment = Clockwise Mo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moment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ti-clockwise Moment = Clockwise Mo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ALANC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t moment is zer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53D-CCBC-4469-802A-B7272F78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7D6-EBF2-4B48-BC0E-3B2B0209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A17-C318-4801-8144-185C0197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F27-E636-4986-8D70-3952183A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29F6-7F5F-4931-B561-5C370D8C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4631-983B-47EB-A3C6-ED959B1D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2D6D-D758-4FC2-B54B-6DD9FD77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2DE2-9246-4947-ABF4-11ADCBA2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8D5F-B85B-4BC0-89F9-6E7A5416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26EA-E26C-4E8A-9AA3-CED90643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37E6-3D29-4FBA-94B9-23DB71A3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A86-904D-486C-9D1D-3766C9A8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FA68-E41A-4E17-947D-F613CF0A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560D-41F2-470B-B553-E6559E17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9E5C-9E83-4F1F-A595-C316781B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DCDA-B6A8-45DE-9AAD-607B7599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335D-27B4-455C-8810-759CAFBE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68D-0878-4A9D-8738-AB7B5D53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BE0-E404-4FCF-8CC1-E08630B5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E5B-B049-4263-94E4-2B942676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4E2-4F2D-4DA4-952B-8141AFA7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2E8-EE45-48BD-AEDF-8BACA3E8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A2B-B293-445A-A09C-BE793462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BEA-531C-452B-9BFC-107C06F3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8F59-7864-4A98-A4CC-A8B5196C8AC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80D3-C0DC-4827-A487-1A10C8E8997C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7"/>
          <p:cNvSpPr/>
          <p:nvPr/>
        </p:nvSpPr>
        <p:spPr>
          <a:xfrm>
            <a:off x="179280" y="189000"/>
            <a:ext cx="439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Pressur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and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Mo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http://www.s-cool.co.uk/g-/phy-/forces-/g-phy-forces-rs_files/image00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3068640"/>
            <a:ext cx="4589280" cy="1425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59" name="Rectangle 5"/>
          <p:cNvSpPr/>
          <p:nvPr/>
        </p:nvSpPr>
        <p:spPr>
          <a:xfrm>
            <a:off x="900000" y="473400"/>
            <a:ext cx="5194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Pressure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-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 soli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Verdana"/>
                <a:ea typeface="Times New Roman"/>
              </a:rPr>
              <a:t>If a force is applied over a smaller surface area you get a larger pressur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Pressure can be calculated using the following equatio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580000" y="31417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021800" y="3068640"/>
            <a:ext cx="14500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AutoShape 8"/>
          <p:cNvSpPr/>
          <p:nvPr/>
        </p:nvSpPr>
        <p:spPr>
          <a:xfrm rot="5400000">
            <a:off x="4249440" y="46879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AutoShape 9"/>
          <p:cNvSpPr/>
          <p:nvPr/>
        </p:nvSpPr>
        <p:spPr>
          <a:xfrm rot="7363800">
            <a:off x="312840" y="4600800"/>
            <a:ext cx="2303280" cy="925200"/>
          </a:xfrm>
          <a:custGeom>
            <a:avLst/>
            <a:gdLst>
              <a:gd name="textAreaLeft" fmla="*/ 359640 w 2303280"/>
              <a:gd name="textAreaRight" fmla="*/ 2015640 w 2303280"/>
              <a:gd name="textAreaTop" fmla="*/ 231120 h 925200"/>
              <a:gd name="textAreaBottom" fmla="*/ 694080 h 92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9560" y="6165720"/>
            <a:ext cx="24652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cals or N/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509000" y="5805360"/>
            <a:ext cx="5511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-1260360" y="1628640"/>
          <a:ext cx="9504360" cy="2670480"/>
        </p:xfrm>
        <a:graphic>
          <a:graphicData uri="http://schemas.openxmlformats.org/drawingml/2006/table">
            <a:tbl>
              <a:tblPr/>
              <a:tblGrid>
                <a:gridCol w="1346040"/>
                <a:gridCol w="815832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ncreases     with depth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 acts</a:t>
                      </a:r>
                      <a:r>
                        <a:rPr b="1" lang="en-GB" sz="2400" spc="-1" strike="noStrike">
                          <a:solidFill>
                            <a:srgbClr val="808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equally in all direction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s transmitted through liquid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 Black"/>
              </a:rPr>
              <a:t>Pressure</a:t>
            </a: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 - In liquids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3780000" y="1844640"/>
            <a:ext cx="50472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AutoShape 20"/>
          <p:cNvSpPr/>
          <p:nvPr/>
        </p:nvSpPr>
        <p:spPr>
          <a:xfrm>
            <a:off x="6227640" y="1916280"/>
            <a:ext cx="486000" cy="502920"/>
          </a:xfrm>
          <a:prstGeom prst="downArrow">
            <a:avLst>
              <a:gd name="adj1" fmla="val 50000"/>
              <a:gd name="adj2" fmla="val 2587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AutoShape 21"/>
          <p:cNvSpPr/>
          <p:nvPr/>
        </p:nvSpPr>
        <p:spPr>
          <a:xfrm>
            <a:off x="7164360" y="2492280"/>
            <a:ext cx="1224000" cy="1079640"/>
          </a:xfrm>
          <a:custGeom>
            <a:avLst/>
            <a:gdLst>
              <a:gd name="textAreaLeft" fmla="*/ 122400 w 1224000"/>
              <a:gd name="textAreaRight" fmla="*/ 1101600 w 1224000"/>
              <a:gd name="textAreaTop" fmla="*/ 432000 h 1079640"/>
              <a:gd name="textAreaBottom" fmla="*/ 648000 h 107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22" descr="brake hydraulic"/>
          <p:cNvPicPr/>
          <p:nvPr/>
        </p:nvPicPr>
        <p:blipFill>
          <a:blip r:embed="rId4"/>
          <a:stretch/>
        </p:blipFill>
        <p:spPr>
          <a:xfrm>
            <a:off x="900000" y="4653000"/>
            <a:ext cx="3384720" cy="17287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 flipV="1" rot="10800000">
            <a:off x="4640400" y="4648680"/>
            <a:ext cx="4179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hydraulics systems work because the pressure is the same throughout the syst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-181080" y="-490680"/>
            <a:ext cx="93250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Moment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Moments make things turn or rotate. 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used</a:t>
            </a:r>
            <a:r>
              <a:rPr b="1" lang="en-GB" sz="2800" spc="-1" strike="noStrike">
                <a:solidFill>
                  <a:srgbClr val="ff8b1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by forces but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 forces themselv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539640" y="4149720"/>
            <a:ext cx="81360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he moment will be bigger if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causing the turning effect is bigg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is further from the pivo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5110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Black"/>
              </a:rPr>
              <a:t>Calculating the size of a moment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3284640"/>
            <a:ext cx="6337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Moment = Force x Dis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987640" y="5445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093080" y="551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Line 8"/>
          <p:cNvSpPr/>
          <p:nvPr/>
        </p:nvSpPr>
        <p:spPr>
          <a:xfrm flipH="1" flipV="1">
            <a:off x="6372360" y="4149360"/>
            <a:ext cx="720720" cy="100980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50920" y="5950080"/>
            <a:ext cx="1800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Black"/>
              </a:rPr>
              <a:t>N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971640" y="4149360"/>
            <a:ext cx="145800" cy="115236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Line 11"/>
          <p:cNvSpPr/>
          <p:nvPr/>
        </p:nvSpPr>
        <p:spPr>
          <a:xfrm flipH="1" flipV="1">
            <a:off x="3708000" y="4149360"/>
            <a:ext cx="144360" cy="108108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sci_dia_90"/>
          <p:cNvPicPr/>
          <p:nvPr/>
        </p:nvPicPr>
        <p:blipFill>
          <a:blip r:embed="rId1"/>
          <a:stretch/>
        </p:blipFill>
        <p:spPr>
          <a:xfrm>
            <a:off x="179280" y="2276640"/>
            <a:ext cx="8569440" cy="34160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0" y="595008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Anti-clockwise Moment = Clockwise Mo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684360" y="836640"/>
            <a:ext cx="46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BALANC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Net moment is ze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2:46:28Z</dcterms:created>
  <dc:creator>HP Authorized Customer</dc:creator>
  <dc:description/>
  <dc:language>en-US</dc:language>
  <cp:lastModifiedBy>RomaK</cp:lastModifiedBy>
  <dcterms:modified xsi:type="dcterms:W3CDTF">2015-09-03T12:35:53Z</dcterms:modified>
  <cp:revision>13</cp:revision>
  <dc:subject/>
  <dc:title>Slide 1</dc:title>
</cp:coreProperties>
</file>